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C2A-0421-43F4-8AE5-84D8538D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D683-6C17-4F8C-B21B-33A32278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674-544A-493D-A56B-5E001981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E31-CC8C-4D65-82F4-82F316C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674-1770-4392-BA4B-AA6AF588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0B6-F807-4B4F-A420-178E8294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D7D-1CB0-4248-ADCF-AB8CC95D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C0D-3D72-4F64-89E7-9BAD13A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634-1E33-46D5-A835-C4DECFC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F90-B555-4106-B175-283A0EB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68B-DE25-4B4E-8EF4-50A5D35C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84D-E6C0-4210-AA1B-49587EA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B7F-7C8F-4106-A68D-5A3DFD5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7CC-5599-493B-9E3E-56475C1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2F2-820E-4F75-9BD4-8606E6386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wada-ama.org/" TargetMode="External"/><Relationship Id="rId2" Type="http://schemas.openxmlformats.org/officeDocument/2006/relationships/hyperlink" Target="http://www.adas.org.rs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Допинг контро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96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09680" y="1447920"/>
            <a:ext cx="45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33720" y="19810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ровођење допинг контр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о узорак узима се урин или к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е или више стерилни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затворених у пластичну к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није претходно отварана нити оштећ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пходно је да спортис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 број с комплета (кутије) и бочиц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ста наводи у формулару све лекове и суплементе које је узимао 7 дана пре допинг контр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ста наводи  у формулару све примедбе и недоумице у вези са процеду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р не садржи име спортисте већ само број компле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гистрована тест гру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бољи спортисти, које одређују савези и Антидопинг агенција Републике Срб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и који се налазе у регистрованој тест групи дужни су током целе године да свакодневно обезбеђују податке о локацији на којој ће тог дана боравити 60 минута. На тој адреси и у том времену допинг контролор може да их пронађе и спроведе поступак допинг контроле. Уколико спортиста три пута у току 12 месеци не буде на адреси и у време које је унео,такав поступак се сматра повредом антидопинг правила и спортиста ће бити кажњен забраном бављења спортом у одређеном временском трајању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9528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Спортисти и допин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рија Шарапова – мелдонијум (Милдронат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одине суспензије (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јего Марадона –кокаин (1991) 15месеци суспензије –ефедрин (1994)  9месеци сусп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дре Агаси – метамфе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Ђузеп Гвардиола – нандролон, 4 месеца сусп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нс Армстронг – еритропое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нолд Шварценегер – метан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Downloads\sp-sarapova.jpg"/>
          <p:cNvPicPr/>
          <p:nvPr/>
        </p:nvPicPr>
        <p:blipFill>
          <a:blip r:embed="rId1"/>
          <a:stretch/>
        </p:blipFill>
        <p:spPr>
          <a:xfrm>
            <a:off x="6083280" y="-55440"/>
            <a:ext cx="2914560" cy="348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Downloads\Copa-America-871.jpg"/>
          <p:cNvPicPr/>
          <p:nvPr/>
        </p:nvPicPr>
        <p:blipFill>
          <a:blip r:embed="rId2"/>
          <a:stretch/>
        </p:blipFill>
        <p:spPr>
          <a:xfrm>
            <a:off x="6010200" y="2230560"/>
            <a:ext cx="2914560" cy="3395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Downloads\11armstrong2-superJumbo.jpg"/>
          <p:cNvPicPr/>
          <p:nvPr/>
        </p:nvPicPr>
        <p:blipFill>
          <a:blip r:embed="rId3"/>
          <a:stretch/>
        </p:blipFill>
        <p:spPr>
          <a:xfrm>
            <a:off x="6010200" y="4516560"/>
            <a:ext cx="2914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ишар Га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каин (2009) – 2 месеца сусп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мас Хикс – стрихнин (19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2017-ој години 13 српских спортиста пало на допинг тес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wada-ama.or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das.org.r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инг представља коришћење забрањених супстанци или метода у циљу побољшања спортских перформан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op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ме алкохолног п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ви допин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ст у историји борбе против допинга у спорту урађен је на Олимпијски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ама у Мексику 1968. годи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:\Downloads\Logo_Doping.jpg"/>
          <p:cNvPicPr/>
          <p:nvPr/>
        </p:nvPicPr>
        <p:blipFill>
          <a:blip r:embed="rId1"/>
          <a:stretch/>
        </p:blipFill>
        <p:spPr>
          <a:xfrm>
            <a:off x="6477120" y="441972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вa листa забрањених супстанц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Међународни олимпијски комитет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моторич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анс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мпатикомиметички ам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анси централног нервн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котички аналгетиц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99. године Светск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тидопинг агенција (WADA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51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члана Међународног олимпијског комит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члана Асоцијације национал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импијских ко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 члана Асоцијације интернационалних федерација летњих Олимпијских иг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члан Спортакор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члан Асоцијација интернационалних федерација зимских олимпијских ига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ири из редова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из Међународног паралимијског ко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ли чланови долазе из редова влада свих држава с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8 чланова)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Downloads\1001589_medjunarodni-olimpijski-komitet-mok-sportisti-antidoping_ls-s.jpg"/>
          <p:cNvPicPr/>
          <p:nvPr/>
        </p:nvPicPr>
        <p:blipFill>
          <a:blip r:embed="rId1"/>
          <a:stretch/>
        </p:blipFill>
        <p:spPr>
          <a:xfrm>
            <a:off x="6248520" y="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ви период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кови чија ефикасност је максимална ако се употребљава непосредно пре или чак током такмичења(стимуланси, наркотици и кока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уги период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станце које захтевају континуирану употребу током дужег временског периода да би били ефикасни (анаболички стерои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ећи период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станце које повећавају спортску способност, а припадају класи пептида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кортико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5560" indent="-38556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тврти период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ришћење генског допинг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тидопинг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уство забрањене супстанце у телесном узорку спорти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ишћење или покушај коришћења допинг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бијање или избегавање допинг контрол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метање или покушај ометања допинг контр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озвољено поседовање допинг средста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влашћена продаја или дистрибуција допинг средста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ње или покушај давања допинг средста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учесниш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 контрола укључуј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ање тест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ор спортиста за тестирање и утврђивање регистроване тест групе спорти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упљање и руковање узорц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бораторијску анали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ђење резулта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обравање изузећа за терапеутску употре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леђивање информација у вези с доступношћу за тестирање изван 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тресе и жалб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инг конт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такми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ван такми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ављ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најављ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 допинг контроле на територији Републике Србије спровод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тидопинг агенција Републике Србиј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збор спортисте за допинг контрол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случајног одаби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у постигнутих спортских резулта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првопласирана спортиста и још један спортис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и који оборе или изједначе национални, европски или светски рекорд на такмичењима спортиста појединац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или три спортиста из сваке екипе, насумичним извлачењем (лоз систем) или циљаним одабиром на колективним (тимским) спортским такмичењим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чно одређени спортиста – ако постоји сумња да је допингован, или према процени допинг контрол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1:01:17Z</dcterms:created>
  <dc:creator>Aleksandra-pc</dc:creator>
  <dc:description/>
  <dc:language>en-US</dc:language>
  <cp:lastModifiedBy>Marko</cp:lastModifiedBy>
  <dcterms:modified xsi:type="dcterms:W3CDTF">2018-11-28T19:53:12Z</dcterms:modified>
  <cp:revision>79</cp:revision>
  <dc:subject/>
  <dc:title>ПРЕВЕНЦИЈА СПОРТСКИХ ПОВРЕДА</dc:title>
</cp:coreProperties>
</file>